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0B94-759A-4786-934A-5678537AD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A949-E70D-416B-8CC1-CF3C8C2B5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D0F4-3D72-43A9-A2B7-57AC8138F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B25B-BCE3-471B-974C-7826B1474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7C74-34BD-456A-9C03-17CA376AC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8450-46D7-41DD-88B8-5C003FEAD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C75B-D059-4D6E-AFC8-6E526D090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4272-60D7-4218-A676-114B6EDAE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C39A-5FA9-432A-8835-A304A7E0F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8CC0-63E1-41D1-87FE-D694F18B6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0076-ED63-49CF-87B2-ACAE8BD4B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EA9A-0DD3-4E35-9781-2A2F208AF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41B9-6720-45DA-8F0D-F02A18EB5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BD2B-F6B6-403B-8A2C-412C3AEEF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my scaffolds don’t give it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E2E6-A86F-4F81-B4D4-9896E8CA0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my scaffolds don’t give it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0CE3-5A3C-4C09-AB2E-56C778FE5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F7A6-190A-4669-AF3C-DE4B68B6E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709E-540A-4F04-B75D-93172D356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B61C-6621-4308-BB16-D02AF2E7B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BE6F-ABC8-4C5B-96C0-C4BE444D9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230B-6032-4002-8ACA-E7A8083F5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2ACB-7844-4025-B47B-0AA26125D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6543-573B-4AE9-A9E3-3DF957C7F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measuring algebraic expressions for general term, but yes for term value/term number relationships or predicting 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BEC8-D36E-45F3-8FF7-D32D6929A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33AC-0870-4B8D-AA35-5291CFD33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measuring algebraic expressions for general term, but yes for representing linear growing patterns, predicting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CF7D-4015-478B-A4C8-31EC62A4A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7CCF-4DF5-4498-B888-C469BCB0C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052B-C757-47D0-9D32-50E81FD13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5F17-3E89-4B45-ACD4-51842363E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8ED6-1E11-4AE6-9C66-4FB8BB240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32A0-D2D0-4895-B665-393A4C463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C4D3-8A7D-4C69-A359-549ACB58D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33AD-5B24-4A7A-905F-8A036ADFF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4633-E53E-4182-8E4E-11753229D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FEA9-044F-4D19-9E4C-E69D3E12B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at these scaffolds don’t tell the kid what to do– they keep them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1DB0-F23B-4411-9C91-24C1E2616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0198-4E41-4CDB-8347-D93E3168B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1B43-1987-485F-B001-4D90956AB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110E-124C-40F3-8C5E-3E1BE0C7D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FE69-B40B-4EBE-AF60-765745081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B169-C39A-45A2-B600-811CEC8BF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44A4-28E8-4B0B-925F-53674AADF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8A4F-FA20-4883-9FB4-93A0E0825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5CD1-FDA4-4DEC-A8CF-4948CAC76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5055-8B1D-4C07-8D57-4B8DD95C9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5B73-C3D2-4884-978D-431646424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3F10-74E2-4F65-B794-B02DAADA0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0C5B-64B0-4EE5-82F9-6934AC3C1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1C6C-6641-407F-A6E2-DE34B60A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E0AE-E4EE-4A66-9464-6A8CEFAC6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1740-D0E3-4193-BC64-53472D271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1975-B5CB-4EB3-B4A4-48F724384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8352-F3C9-4ABD-8256-956720C6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8F03-C744-42CF-9588-F927B082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6ADC-84AF-482F-B79C-1E0507B5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4CD5-C179-4641-AE18-E2CDD543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42EC-4FA1-448A-B5E3-1544F38D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D78E3-D7CC-46FC-B7B7-4B51D5AC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57EE-07DD-460A-AD83-8A3FF176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671E-716F-4E7B-934A-3C57F971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B2AF-4013-4D57-B216-4AB587DD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9DAC-E7F5-43B1-96FA-92FE776A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88BD5-D206-40BC-AEEC-08E36F894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0559-E9AB-4AD8-A090-84CF63996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7FFC-DB9D-4CDD-BC8F-FACEF9AD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B296-D1AF-43B9-ADEA-485D2477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AB59-EAE6-459D-9345-1341B0DB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DCCF-D0E0-401E-BC64-989930B6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65E8-EDC9-4196-BBC1-D8D3BB6A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5F2F-E496-495C-84E9-15559C2C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0D3B-A2A2-4449-9B83-938C5BD9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CE90-C1B4-4A68-8C95-3A474861F39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Untitled-1"/>
          <p:cNvPicPr/>
          <p:nvPr/>
        </p:nvPicPr>
        <p:blipFill>
          <a:blip r:embed="rId3"/>
          <a:stretch/>
        </p:blipFill>
        <p:spPr>
          <a:xfrm>
            <a:off x="380880" y="380880"/>
            <a:ext cx="6853320" cy="1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1C9B-AB7E-4A0F-8B3D-DC9D73706D1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Plenary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9E76-1682-4562-8CB0-58B05100DF1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143000" y="2438280"/>
            <a:ext cx="73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other relationship might always be tr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 can I do to scaffol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164C-9F3A-4B44-B319-824288DE721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143000" y="2438280"/>
            <a:ext cx="73152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oose your relationship and draw the pictu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est it by seeing if someone else “gets it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You 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5846-337E-48A5-B3E3-AAF9D36A65B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143000" y="24382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(x +3) = 2x +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One possible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6"/>
          <p:cNvGrpSpPr/>
          <p:nvPr/>
        </p:nvGrpSpPr>
        <p:grpSpPr>
          <a:xfrm>
            <a:off x="3200400" y="3581280"/>
            <a:ext cx="4952880" cy="825840"/>
            <a:chOff x="3200400" y="3581280"/>
            <a:chExt cx="4952880" cy="825840"/>
          </a:xfrm>
        </p:grpSpPr>
        <p:sp>
          <p:nvSpPr>
            <p:cNvPr id="162" name="Rectangle 5"/>
            <p:cNvSpPr/>
            <p:nvPr/>
          </p:nvSpPr>
          <p:spPr>
            <a:xfrm>
              <a:off x="3200400" y="3581280"/>
              <a:ext cx="1904760" cy="38124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7"/>
            <p:cNvSpPr/>
            <p:nvPr/>
          </p:nvSpPr>
          <p:spPr>
            <a:xfrm>
              <a:off x="5105160" y="3581280"/>
              <a:ext cx="1904760" cy="38124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8"/>
            <p:cNvSpPr/>
            <p:nvPr/>
          </p:nvSpPr>
          <p:spPr>
            <a:xfrm>
              <a:off x="7010280" y="3581280"/>
              <a:ext cx="380880" cy="38124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9"/>
            <p:cNvSpPr/>
            <p:nvPr/>
          </p:nvSpPr>
          <p:spPr>
            <a:xfrm>
              <a:off x="7391520" y="3581280"/>
              <a:ext cx="380880" cy="38124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0"/>
            <p:cNvSpPr/>
            <p:nvPr/>
          </p:nvSpPr>
          <p:spPr>
            <a:xfrm>
              <a:off x="7772400" y="3581280"/>
              <a:ext cx="380880" cy="38124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Box 11"/>
            <p:cNvSpPr/>
            <p:nvPr/>
          </p:nvSpPr>
          <p:spPr>
            <a:xfrm>
              <a:off x="3809880" y="36572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Box 12"/>
            <p:cNvSpPr/>
            <p:nvPr/>
          </p:nvSpPr>
          <p:spPr>
            <a:xfrm>
              <a:off x="5791320" y="36572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Box 13"/>
            <p:cNvSpPr/>
            <p:nvPr/>
          </p:nvSpPr>
          <p:spPr>
            <a:xfrm>
              <a:off x="7010280" y="3657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14"/>
            <p:cNvSpPr/>
            <p:nvPr/>
          </p:nvSpPr>
          <p:spPr>
            <a:xfrm>
              <a:off x="7391520" y="3657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15"/>
            <p:cNvSpPr/>
            <p:nvPr/>
          </p:nvSpPr>
          <p:spPr>
            <a:xfrm>
              <a:off x="7772400" y="3657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16"/>
            <p:cNvSpPr/>
            <p:nvPr/>
          </p:nvSpPr>
          <p:spPr>
            <a:xfrm>
              <a:off x="3200400" y="3962520"/>
              <a:ext cx="1904760" cy="38124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7"/>
            <p:cNvSpPr/>
            <p:nvPr/>
          </p:nvSpPr>
          <p:spPr>
            <a:xfrm>
              <a:off x="5105160" y="3962520"/>
              <a:ext cx="1904760" cy="38124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8"/>
            <p:cNvSpPr/>
            <p:nvPr/>
          </p:nvSpPr>
          <p:spPr>
            <a:xfrm>
              <a:off x="7010280" y="3962520"/>
              <a:ext cx="380880" cy="38124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9"/>
            <p:cNvSpPr/>
            <p:nvPr/>
          </p:nvSpPr>
          <p:spPr>
            <a:xfrm>
              <a:off x="7391520" y="3962520"/>
              <a:ext cx="380880" cy="38124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0"/>
            <p:cNvSpPr/>
            <p:nvPr/>
          </p:nvSpPr>
          <p:spPr>
            <a:xfrm>
              <a:off x="7772400" y="3962520"/>
              <a:ext cx="380880" cy="38124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21"/>
            <p:cNvSpPr/>
            <p:nvPr/>
          </p:nvSpPr>
          <p:spPr>
            <a:xfrm>
              <a:off x="3809880" y="40388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Box 22"/>
            <p:cNvSpPr/>
            <p:nvPr/>
          </p:nvSpPr>
          <p:spPr>
            <a:xfrm>
              <a:off x="5791320" y="40388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23"/>
            <p:cNvSpPr/>
            <p:nvPr/>
          </p:nvSpPr>
          <p:spPr>
            <a:xfrm>
              <a:off x="7010280" y="40388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24"/>
            <p:cNvSpPr/>
            <p:nvPr/>
          </p:nvSpPr>
          <p:spPr>
            <a:xfrm>
              <a:off x="7391520" y="40388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25"/>
            <p:cNvSpPr/>
            <p:nvPr/>
          </p:nvSpPr>
          <p:spPr>
            <a:xfrm>
              <a:off x="7772400" y="40388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8E22-A9B9-4BBE-8454-7B559061B51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143000" y="24382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x+1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2x +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nother possible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34"/>
          <p:cNvGrpSpPr/>
          <p:nvPr/>
        </p:nvGrpSpPr>
        <p:grpSpPr>
          <a:xfrm>
            <a:off x="3505320" y="3352680"/>
            <a:ext cx="1295280" cy="1141920"/>
            <a:chOff x="3505320" y="3352680"/>
            <a:chExt cx="1295280" cy="1141920"/>
          </a:xfrm>
        </p:grpSpPr>
        <p:sp>
          <p:nvSpPr>
            <p:cNvPr id="186" name="Rectangle 26"/>
            <p:cNvSpPr/>
            <p:nvPr/>
          </p:nvSpPr>
          <p:spPr>
            <a:xfrm>
              <a:off x="3505320" y="3352680"/>
              <a:ext cx="914400" cy="9144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27"/>
            <p:cNvSpPr/>
            <p:nvPr/>
          </p:nvSpPr>
          <p:spPr>
            <a:xfrm>
              <a:off x="4419720" y="3352680"/>
              <a:ext cx="152280" cy="9144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28"/>
            <p:cNvSpPr/>
            <p:nvPr/>
          </p:nvSpPr>
          <p:spPr>
            <a:xfrm rot="5400000">
              <a:off x="3886200" y="3885840"/>
              <a:ext cx="152280" cy="9144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29"/>
            <p:cNvSpPr/>
            <p:nvPr/>
          </p:nvSpPr>
          <p:spPr>
            <a:xfrm rot="5400000">
              <a:off x="4419360" y="4267080"/>
              <a:ext cx="152280" cy="15228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30"/>
            <p:cNvSpPr/>
            <p:nvPr/>
          </p:nvSpPr>
          <p:spPr>
            <a:xfrm>
              <a:off x="3733920" y="36572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31"/>
            <p:cNvSpPr/>
            <p:nvPr/>
          </p:nvSpPr>
          <p:spPr>
            <a:xfrm>
              <a:off x="4343400" y="36572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32"/>
            <p:cNvSpPr/>
            <p:nvPr/>
          </p:nvSpPr>
          <p:spPr>
            <a:xfrm>
              <a:off x="3733920" y="41148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33"/>
            <p:cNvSpPr/>
            <p:nvPr/>
          </p:nvSpPr>
          <p:spPr>
            <a:xfrm>
              <a:off x="4343400" y="41263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2B97-EF87-4291-B30F-5B5F4CA7267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143000" y="2438280"/>
            <a:ext cx="73152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ost of the scaffolds we just saw were very problem specifi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eneral scaffolds are also helpfu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General &amp; specific scaffo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EC0E-32D6-4A94-8A33-5068E462B4B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143000" y="2438280"/>
            <a:ext cx="7315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me of you used “popsicle” sticks for th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ll of you used question stems in your FCCF grou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General &amp; specific scaffo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36FF-3A6F-4E38-BBA7-C877F9A4420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143000" y="2438280"/>
            <a:ext cx="7315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other useful source for general scaffolds is available in the mathematical process package in TIPS on the Edugains websi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General &amp; specific scaffo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CF69-A5E8-48AF-AFD8-ABC1D9D8CC0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143000" y="2438280"/>
            <a:ext cx="7315200" cy="59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ere have you seen something like this befo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patterns do you s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ave you thought about…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or examp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B306-073A-403B-9BC6-2D0D199C4C6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143000" y="2438280"/>
            <a:ext cx="73152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ask: You graph 2 lines. The 1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is 3x + 2y = 6 and the 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is –x + 3y = 17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third line lies between them. What might its equation b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94D5-6F7C-4C45-908F-58ECFCD3056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Picture 1.png"/>
          <p:cNvPicPr/>
          <p:nvPr/>
        </p:nvPicPr>
        <p:blipFill>
          <a:blip r:embed="rId1"/>
          <a:stretch/>
        </p:blipFill>
        <p:spPr>
          <a:xfrm>
            <a:off x="0" y="987480"/>
            <a:ext cx="9144000" cy="4883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C285-A3D1-48E3-ABA6-C41B575FB65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143000" y="2438280"/>
            <a:ext cx="7315200" cy="65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e ask an open ques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obody respond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e thing we need to work on are strategies to use in that situation. Let’s try an examp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caffol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362D-8CFA-4115-9C2F-5C4EF70AB0A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143000" y="2438280"/>
            <a:ext cx="731520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would you decide whether to graph the two lines or just sketch th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 are some scaffol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DDA8-6745-4713-AB6B-4DB9C13F0E4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143000" y="2438280"/>
            <a:ext cx="73152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o you think the slope of the in-between line will be positive or negative?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 are some scaffol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52A9-FF38-42AD-8034-E21961E12D0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143000" y="2438280"/>
            <a:ext cx="731520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graph the in-between line, how would you calculate the slo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else would you want to do to get the equation of the l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 are some scaffol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8C95-327B-4424-8472-74F81019B54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Picture 1.png"/>
          <p:cNvPicPr/>
          <p:nvPr/>
        </p:nvPicPr>
        <p:blipFill>
          <a:blip r:embed="rId1"/>
          <a:stretch/>
        </p:blipFill>
        <p:spPr>
          <a:xfrm>
            <a:off x="0" y="987480"/>
            <a:ext cx="9144000" cy="4883040"/>
          </a:xfrm>
          <a:prstGeom prst="rect">
            <a:avLst/>
          </a:prstGeom>
          <a:ln w="0">
            <a:noFill/>
          </a:ln>
        </p:spPr>
      </p:pic>
      <p:sp>
        <p:nvSpPr>
          <p:cNvPr id="222" name="Straight Connector 4"/>
          <p:cNvSpPr/>
          <p:nvPr/>
        </p:nvSpPr>
        <p:spPr>
          <a:xfrm>
            <a:off x="0" y="1981080"/>
            <a:ext cx="9144000" cy="1600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7"/>
          <p:cNvSpPr/>
          <p:nvPr/>
        </p:nvSpPr>
        <p:spPr>
          <a:xfrm>
            <a:off x="0" y="1219320"/>
            <a:ext cx="8839080" cy="36576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9"/>
          <p:cNvSpPr/>
          <p:nvPr/>
        </p:nvSpPr>
        <p:spPr>
          <a:xfrm flipH="1">
            <a:off x="3048120" y="1295280"/>
            <a:ext cx="304560" cy="42674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12"/>
          <p:cNvSpPr/>
          <p:nvPr/>
        </p:nvSpPr>
        <p:spPr>
          <a:xfrm flipV="1">
            <a:off x="304920" y="2437920"/>
            <a:ext cx="8839080" cy="1219320"/>
          </a:xfrm>
          <a:prstGeom prst="line">
            <a:avLst/>
          </a:prstGeom>
          <a:ln w="2556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4377-B1FD-4362-8AA6-4A5B70AAAFC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143000" y="2438280"/>
            <a:ext cx="7315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oose an open ques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t could be your own (e.g. from yesterday), one of mine or one from a resour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9DEA-30BA-4253-A02D-F76740E84AA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143000" y="2438280"/>
            <a:ext cx="73152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ork with a partner to develop scaffolding questions that might help a student who doesn’t know how to start,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u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without taking away the student’s need to thin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511E-0C77-4ED4-8D19-63140217C1E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143000" y="2438280"/>
            <a:ext cx="73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hare your work with another pair at another tab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82D0-763F-47E3-9CBC-A95F4B82505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143000" y="2438280"/>
            <a:ext cx="7315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pen questions and parallel tasks are built for instruction. The focus is not on evaluation, bu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ssessment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F709-FAA3-4291-A311-03E02346681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1143000" y="2438280"/>
            <a:ext cx="7315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t makes total sense to use parallel tasks to measure communication and/or thinking and maybe (depending) knowledge or applic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ssessment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B1DF-E842-4182-A924-95802E1A96D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1143000" y="2438280"/>
            <a:ext cx="7315200" cy="65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ask A: Think of a way to represent the pattern with the general term 3n +1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s 925 a term in the pattern? How do you know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o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8F7E-4067-4333-91F2-D5FC5CB9676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143000" y="2133720"/>
            <a:ext cx="7315200" cy="59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 believe that this picture shows that the equation     4ab + (a – b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(a+b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o matter what a and b a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o you agr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Visual alge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3"/>
          <p:cNvGrpSpPr/>
          <p:nvPr/>
        </p:nvGrpSpPr>
        <p:grpSpPr>
          <a:xfrm>
            <a:off x="7315200" y="4267080"/>
            <a:ext cx="1523880" cy="1600200"/>
            <a:chOff x="7315200" y="4267080"/>
            <a:chExt cx="1523880" cy="1600200"/>
          </a:xfrm>
        </p:grpSpPr>
        <p:sp>
          <p:nvSpPr>
            <p:cNvPr id="100" name="Rectangle 5"/>
            <p:cNvSpPr/>
            <p:nvPr/>
          </p:nvSpPr>
          <p:spPr>
            <a:xfrm>
              <a:off x="7315200" y="4267080"/>
              <a:ext cx="1219320" cy="3204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0"/>
            <p:cNvSpPr/>
            <p:nvPr/>
          </p:nvSpPr>
          <p:spPr>
            <a:xfrm>
              <a:off x="7619760" y="5546880"/>
              <a:ext cx="1219320" cy="3204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 rot="5400000">
              <a:off x="8046720" y="4754520"/>
              <a:ext cx="1279800" cy="30456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2"/>
            <p:cNvSpPr/>
            <p:nvPr/>
          </p:nvSpPr>
          <p:spPr>
            <a:xfrm rot="5400000">
              <a:off x="6827400" y="5074920"/>
              <a:ext cx="1279800" cy="30456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BA58-7287-45BE-9906-376117FBF25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143000" y="2438280"/>
            <a:ext cx="7315200" cy="71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ask B: Think of a way to represent a pattern where each term value is eight times the term number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s 925 a term in the pattern? How do you kn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o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D7B8-B537-41EE-9041-FC1A9A8A0E0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143000" y="2438280"/>
            <a:ext cx="73152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t makes sense, even on a “test”, to use open tasks to ensure that students get an opportunity to tell as much as they know in whatever form works for them about an idea they have learn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ssessment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01A3-C096-46E0-A99C-854EAAC199F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1143000" y="2438280"/>
            <a:ext cx="73152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ish this paragraph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s thoroughly as you ca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Make sure to justify what you s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 think that linear relations are useful becaus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o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7C08-DF22-4E00-9397-D37267C8F41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143000" y="2438280"/>
            <a:ext cx="7315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o use a previously shared rubric before posing such questions to help students meet succes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It is important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A5B7-280C-45DC-8159-E5D814504F5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143000" y="2438280"/>
            <a:ext cx="7315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lthough assessment of learning should drive what you teach, it should not limit the strategies you use to meet all students’ need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ssessment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C445-43F2-405B-A10B-9CCF4833C11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1143000" y="2438280"/>
            <a:ext cx="731520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tarting at 1, using counting numbers, number off the people at your tab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n a minute, you will move to an area for people with your numb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Number 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17CE-CD27-4537-B55D-F82BDA41993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1143000" y="2438280"/>
            <a:ext cx="7315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ur “big idea” for CAMPPP is that if you think more broadly about what you are focusing on in instruction, you are more likely t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ummarizing 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36AA-C5CB-4FAA-804F-9F6CAEDA6DD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143000" y="2438280"/>
            <a:ext cx="73152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elp students make essential conn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sure that students learn what is really import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ummarizing 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D221-1E5F-4524-BBCF-B22FD3CBD1B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1143000" y="2438280"/>
            <a:ext cx="7315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sure that a much broader range of students can meet suc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ummarizing 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072C-A11D-4B7A-8FCD-E6AD43FF1BE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143000" y="2438280"/>
            <a:ext cx="73152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rying to convince someone of the value of big ideas and only had 1 minute, what would you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iscuss with 3 people with your numb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If you wer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5E4E-C3C9-4F53-B745-E3ACBFDB54F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143000" y="2438280"/>
            <a:ext cx="7315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ere do you see the 4ab in the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y do you think that that part of the picture made sense for 4a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 can I do to scaffol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3"/>
          <p:cNvGrpSpPr/>
          <p:nvPr/>
        </p:nvGrpSpPr>
        <p:grpSpPr>
          <a:xfrm>
            <a:off x="7314840" y="5257800"/>
            <a:ext cx="1219680" cy="1295280"/>
            <a:chOff x="7314840" y="5257800"/>
            <a:chExt cx="1219680" cy="1295280"/>
          </a:xfrm>
        </p:grpSpPr>
        <p:sp>
          <p:nvSpPr>
            <p:cNvPr id="108" name="Rectangle 6"/>
            <p:cNvSpPr/>
            <p:nvPr/>
          </p:nvSpPr>
          <p:spPr>
            <a:xfrm>
              <a:off x="7315200" y="5257800"/>
              <a:ext cx="974880" cy="25848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7559640" y="6294600"/>
              <a:ext cx="974880" cy="25848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 rot="5400000">
              <a:off x="7893360" y="5653800"/>
              <a:ext cx="1036800" cy="24444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 rot="5400000">
              <a:off x="6918480" y="5912280"/>
              <a:ext cx="1036800" cy="24444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878E-6724-405C-AD29-43A9DDFD5CF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1143000" y="2438280"/>
            <a:ext cx="731520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ur CAMPPP big ideas are a work in progres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are encouraged to fine tune them with colleagues or on your own, but they should underpin lots of what you d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Remember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A50F-A6F9-403E-9527-D9825ACE243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143000" y="2438280"/>
            <a:ext cx="73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ur focus has been on differentiating instructio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ummarizing D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BF69-34F6-4B0C-9394-CFBB13F50E7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1143000" y="2438280"/>
            <a:ext cx="7315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e want all students, from struggling to talented, to all meet success, but to be challenged and to find the math engag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ummarizing D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A0E8-1FE4-4AC7-B5AA-D4744045667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143000" y="2438280"/>
            <a:ext cx="73152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vince a colleague why differentiating at the instruction level (and not just in terms of the complexity of follow-up) is important and you have 1 minute, what would you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If you want t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0786-0A80-40B8-A674-7C0FD241575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143000" y="2438280"/>
            <a:ext cx="73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ree other people with your number and make your ca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Join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21A4-9B08-451D-9856-8C0E7B2C1AC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Back to se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334D-128D-4971-A953-8D1658270E9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143000" y="2149560"/>
            <a:ext cx="731520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are truly welcome to ask any questions or offer any insights on what we’ve discussed in plenary this week.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o contact me directly: marian@onetwoinfinity.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Your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EF39-8E82-4C45-AF89-594064DFB5C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143000" y="2438280"/>
            <a:ext cx="73152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kind of shape would you look for to model (a+b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y that sha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 can I do to scaffol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F99A-7919-436E-A87A-0F9E47A9352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143000" y="2438280"/>
            <a:ext cx="7315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re are two squares in the pictu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re is an (a+b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  and an  (a-b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ich has to be which?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 can I do to scaffol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3"/>
          <p:cNvGrpSpPr/>
          <p:nvPr/>
        </p:nvGrpSpPr>
        <p:grpSpPr>
          <a:xfrm>
            <a:off x="7086600" y="3276720"/>
            <a:ext cx="1523880" cy="1600200"/>
            <a:chOff x="7086600" y="3276720"/>
            <a:chExt cx="1523880" cy="1600200"/>
          </a:xfrm>
        </p:grpSpPr>
        <p:sp>
          <p:nvSpPr>
            <p:cNvPr id="119" name="Rectangle 6"/>
            <p:cNvSpPr/>
            <p:nvPr/>
          </p:nvSpPr>
          <p:spPr>
            <a:xfrm>
              <a:off x="7086600" y="3276720"/>
              <a:ext cx="1219320" cy="3204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7"/>
            <p:cNvSpPr/>
            <p:nvPr/>
          </p:nvSpPr>
          <p:spPr>
            <a:xfrm>
              <a:off x="7391160" y="4556520"/>
              <a:ext cx="1219320" cy="3204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8"/>
            <p:cNvSpPr/>
            <p:nvPr/>
          </p:nvSpPr>
          <p:spPr>
            <a:xfrm rot="5400000">
              <a:off x="7818120" y="3764160"/>
              <a:ext cx="1279800" cy="30456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9"/>
            <p:cNvSpPr/>
            <p:nvPr/>
          </p:nvSpPr>
          <p:spPr>
            <a:xfrm rot="5400000">
              <a:off x="6598800" y="4084560"/>
              <a:ext cx="1279800" cy="30456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10"/>
          <p:cNvGrpSpPr/>
          <p:nvPr/>
        </p:nvGrpSpPr>
        <p:grpSpPr>
          <a:xfrm>
            <a:off x="6629400" y="3149640"/>
            <a:ext cx="2438280" cy="2409840"/>
            <a:chOff x="6629400" y="3149640"/>
            <a:chExt cx="2438280" cy="2409840"/>
          </a:xfrm>
        </p:grpSpPr>
        <p:grpSp>
          <p:nvGrpSpPr>
            <p:cNvPr id="124" name="Group 13"/>
            <p:cNvGrpSpPr/>
            <p:nvPr/>
          </p:nvGrpSpPr>
          <p:grpSpPr>
            <a:xfrm>
              <a:off x="7086600" y="3301920"/>
              <a:ext cx="1523880" cy="1599840"/>
              <a:chOff x="7086600" y="3301920"/>
              <a:chExt cx="1523880" cy="1599840"/>
            </a:xfrm>
          </p:grpSpPr>
          <p:sp>
            <p:nvSpPr>
              <p:cNvPr id="125" name="Rectangle 16"/>
              <p:cNvSpPr/>
              <p:nvPr/>
            </p:nvSpPr>
            <p:spPr>
              <a:xfrm>
                <a:off x="7086600" y="3301920"/>
                <a:ext cx="1219320" cy="320400"/>
              </a:xfrm>
              <a:prstGeom prst="rect">
                <a:avLst/>
              </a:prstGeom>
              <a:gradFill rotWithShape="0">
                <a:gsLst>
                  <a:gs pos="0">
                    <a:srgbClr val="cbffff"/>
                  </a:gs>
                  <a:gs pos="100000">
                    <a:srgbClr val="b5e5e9"/>
                  </a:gs>
                </a:gsLst>
                <a:lin ang="5400000"/>
              </a:gradFill>
              <a:ln w="12600">
                <a:solidFill>
                  <a:srgbClr val="000000"/>
                </a:solidFill>
                <a:round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7"/>
              <p:cNvSpPr/>
              <p:nvPr/>
            </p:nvSpPr>
            <p:spPr>
              <a:xfrm>
                <a:off x="7391160" y="4581360"/>
                <a:ext cx="1219320" cy="320400"/>
              </a:xfrm>
              <a:prstGeom prst="rect">
                <a:avLst/>
              </a:prstGeom>
              <a:gradFill rotWithShape="0">
                <a:gsLst>
                  <a:gs pos="0">
                    <a:srgbClr val="cbffff"/>
                  </a:gs>
                  <a:gs pos="100000">
                    <a:srgbClr val="b5e5e9"/>
                  </a:gs>
                </a:gsLst>
                <a:lin ang="5400000"/>
              </a:gradFill>
              <a:ln w="12600">
                <a:solidFill>
                  <a:srgbClr val="000000"/>
                </a:solidFill>
                <a:round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8"/>
              <p:cNvSpPr/>
              <p:nvPr/>
            </p:nvSpPr>
            <p:spPr>
              <a:xfrm rot="5400000">
                <a:off x="7818480" y="3789360"/>
                <a:ext cx="1279440" cy="304560"/>
              </a:xfrm>
              <a:prstGeom prst="rect">
                <a:avLst/>
              </a:prstGeom>
              <a:gradFill rotWithShape="0">
                <a:gsLst>
                  <a:gs pos="0">
                    <a:srgbClr val="cbffff"/>
                  </a:gs>
                  <a:gs pos="100000">
                    <a:srgbClr val="b5e5e9"/>
                  </a:gs>
                </a:gsLst>
                <a:lin ang="0"/>
              </a:gradFill>
              <a:ln w="12600">
                <a:solidFill>
                  <a:srgbClr val="000000"/>
                </a:solidFill>
                <a:round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9"/>
              <p:cNvSpPr/>
              <p:nvPr/>
            </p:nvSpPr>
            <p:spPr>
              <a:xfrm rot="5400000">
                <a:off x="6599160" y="4109760"/>
                <a:ext cx="1279440" cy="304560"/>
              </a:xfrm>
              <a:prstGeom prst="rect">
                <a:avLst/>
              </a:prstGeom>
              <a:gradFill rotWithShape="0">
                <a:gsLst>
                  <a:gs pos="0">
                    <a:srgbClr val="cbffff"/>
                  </a:gs>
                  <a:gs pos="100000">
                    <a:srgbClr val="b5e5e9"/>
                  </a:gs>
                </a:gsLst>
                <a:lin ang="0"/>
              </a:gradFill>
              <a:ln w="12600">
                <a:solidFill>
                  <a:srgbClr val="000000"/>
                </a:solidFill>
                <a:round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TextBox 12"/>
            <p:cNvSpPr/>
            <p:nvPr/>
          </p:nvSpPr>
          <p:spPr>
            <a:xfrm>
              <a:off x="6629400" y="383508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Box 13"/>
            <p:cNvSpPr/>
            <p:nvPr/>
          </p:nvSpPr>
          <p:spPr>
            <a:xfrm>
              <a:off x="7010280" y="497808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14"/>
            <p:cNvSpPr/>
            <p:nvPr/>
          </p:nvSpPr>
          <p:spPr>
            <a:xfrm>
              <a:off x="7848720" y="497808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15"/>
            <p:cNvSpPr/>
            <p:nvPr/>
          </p:nvSpPr>
          <p:spPr>
            <a:xfrm>
              <a:off x="6629400" y="314964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AA7F-F872-4E6C-9C4C-FC8CA50AA23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143000" y="2133720"/>
            <a:ext cx="731520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xt I would ask--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lease draw a picture to show a different algebraic relationship that is always tru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Visual alge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C690-27A4-4F92-965F-17D6A4F449A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143000" y="2438280"/>
            <a:ext cx="7315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y is x + 1 = 1 + x an algebraic relationship that is always tr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kind of picture might show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 can I do to scaffol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A916-5365-47D2-BE20-AB7A02B9BAF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143000" y="2438280"/>
            <a:ext cx="73152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ayb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 can I do to scaffol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9"/>
          <p:cNvGrpSpPr/>
          <p:nvPr/>
        </p:nvGrpSpPr>
        <p:grpSpPr>
          <a:xfrm>
            <a:off x="685800" y="3581280"/>
            <a:ext cx="2895480" cy="1219320"/>
            <a:chOff x="685800" y="3581280"/>
            <a:chExt cx="2895480" cy="1219320"/>
          </a:xfrm>
        </p:grpSpPr>
        <p:sp>
          <p:nvSpPr>
            <p:cNvPr id="143" name="Rectangle 5"/>
            <p:cNvSpPr/>
            <p:nvPr/>
          </p:nvSpPr>
          <p:spPr>
            <a:xfrm>
              <a:off x="685800" y="3581280"/>
              <a:ext cx="2895480" cy="4572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6"/>
            <p:cNvSpPr/>
            <p:nvPr/>
          </p:nvSpPr>
          <p:spPr>
            <a:xfrm>
              <a:off x="1447560" y="43434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7"/>
            <p:cNvSpPr/>
            <p:nvPr/>
          </p:nvSpPr>
          <p:spPr>
            <a:xfrm>
              <a:off x="1828800" y="35812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8"/>
            <p:cNvSpPr/>
            <p:nvPr/>
          </p:nvSpPr>
          <p:spPr>
            <a:xfrm>
              <a:off x="1523880" y="44197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26"/>
          <p:cNvGrpSpPr/>
          <p:nvPr/>
        </p:nvGrpSpPr>
        <p:grpSpPr>
          <a:xfrm>
            <a:off x="4800240" y="3428640"/>
            <a:ext cx="2895480" cy="1219320"/>
            <a:chOff x="4800240" y="3428640"/>
            <a:chExt cx="2895480" cy="1219320"/>
          </a:xfrm>
        </p:grpSpPr>
        <p:sp>
          <p:nvSpPr>
            <p:cNvPr id="148" name="Rectangle 27"/>
            <p:cNvSpPr/>
            <p:nvPr/>
          </p:nvSpPr>
          <p:spPr>
            <a:xfrm rot="10800000">
              <a:off x="4800240" y="4187880"/>
              <a:ext cx="2895480" cy="4554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8"/>
            <p:cNvSpPr/>
            <p:nvPr/>
          </p:nvSpPr>
          <p:spPr>
            <a:xfrm rot="10800000">
              <a:off x="6476760" y="3428640"/>
              <a:ext cx="457200" cy="4554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Box 29"/>
            <p:cNvSpPr/>
            <p:nvPr/>
          </p:nvSpPr>
          <p:spPr>
            <a:xfrm rot="10800000">
              <a:off x="5643000" y="42796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30"/>
            <p:cNvSpPr/>
            <p:nvPr/>
          </p:nvSpPr>
          <p:spPr>
            <a:xfrm rot="10800000">
              <a:off x="5947920" y="34444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01:38:15Z</dcterms:created>
  <dc:creator>PSteele</dc:creator>
  <dc:description/>
  <dc:language>en-US</dc:language>
  <cp:lastModifiedBy>Marian Small</cp:lastModifiedBy>
  <dcterms:modified xsi:type="dcterms:W3CDTF">2009-08-21T02:02:05Z</dcterms:modified>
  <cp:revision>333</cp:revision>
  <dc:subject/>
  <dc:title>Slide 1</dc:title>
</cp:coreProperties>
</file>